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AF15F-4A5D-4ACA-9F3C-373DC8329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A44F7-48CE-4FA7-9786-41A822486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9234E-F48F-4BEB-9421-2D4B111D4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E7362-EA60-4C82-972C-3F2CAE072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9138-1D81-4D1C-BC8C-10184E3A8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34B18-B919-499A-A8C2-4214AE4F9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9E4E2-A4AB-48EA-A87F-164BEAB75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9E9C-3B82-46F1-B0B9-65565C90F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8E302-8EBB-42CA-9AE0-C3556795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FA57-9AD4-4FD5-A43D-0B9A4F09E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1A37-738E-444C-830A-5D2619680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B7406-2A85-48DA-B5C5-A524BDCB5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B094-A7E4-478C-8185-D7A09FAC4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447920"/>
            <a:ext cx="8534160" cy="3569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اسبة عن تكاليف معاشات تقاعد الموظفي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ثل تكلفة معاشات التقاعد جزء هام من إجمالى تكلفة الموظفين فى المنشآت وبالتالى فمن المهم أن تعالج تكلفة معاشات التقاعد معالجة سليمة وأن يتم الإفصاح عنها بصورة كافية حيث يهدف المعيار الدولى الى تحديد متى يتم إثبات تكلفة معاشات التقاعد كمصروف وكيفية تحديد هذا المصروف بالإضافة الى المعلومات التى يجب الإفصاح عنها ب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523880"/>
            <a:ext cx="8153280" cy="4667760"/>
          </a:xfrm>
          <a:prstGeom prst="rect">
            <a:avLst/>
          </a:prstGeom>
          <a:noFill/>
          <a:ln w="0">
            <a:noFill/>
          </a:ln>
        </p:spPr>
        <p:style>
          <a:lnRef idx="0"/>
          <a:fillRef idx="0"/>
          <a:effectRef idx="0"/>
          <a:fontRef idx="minor"/>
        </p:style>
        <p:txBody>
          <a:bodyPr lIns="90000" rIns="90000" tIns="46800" bIns="46800" anchor="t">
            <a:spAutoFit/>
          </a:bodyPr>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ريقة وحدة الإئتمان المخططة / طريقة المعاش المستحق ذات العائد المحدد </a:t>
            </a:r>
            <a:endParaRPr b="0" lang="en-US" sz="2000" spc="-1" strike="noStrike">
              <a:solidFill>
                <a:srgbClr val="000000"/>
              </a:solidFill>
              <a:latin typeface="Times New Roman"/>
            </a:endParaRPr>
          </a:p>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سبقا على سنوات الخدمة</a:t>
            </a:r>
            <a:endParaRPr b="0" lang="en-US" sz="2000" spc="-1" strike="noStrike">
              <a:solidFill>
                <a:srgbClr val="000000"/>
              </a:solidFill>
              <a:latin typeface="Times New Roman"/>
            </a:endParaRPr>
          </a:p>
          <a:p>
            <a:pPr marL="68436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بقا لهذه الطريقة فإن المصروف الخاص بالفترة الحالية يجب ان يتضمن ما يلى:</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تكلفة الخدمة الحالية والمتمثلة فى التكلفة التى تتكبدها المنشاة عن الخدمات التى اداها الموظفين المشتركين عن الفترة الحالية.</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2</a:t>
            </a:r>
            <a:r>
              <a:rPr b="0" lang="ar-SA" sz="2000" spc="-1" strike="noStrike">
                <a:solidFill>
                  <a:srgbClr val="000000"/>
                </a:solidFill>
                <a:latin typeface="Times New Roman"/>
              </a:rPr>
              <a:t>) المبالغ التى تخص تكلفة الخدمات السابقة للموظفين الحاليين والمتقاعدين والمتمثلة فى التكلفة التى تتكبدها المنشاة طبقا لنظام معاشات التقاعد عن الخدمات التى اداها الموظفين المشتركين عن الفترة السابقة للبدء فى نظام المعاشات أو تعديل بنوده.</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523880"/>
            <a:ext cx="8458200" cy="314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طبقا لأحد انظمة المعاشات المحددة لشركة الأسرار يكون المعاش فى صورة مبلغ إجمالى مستحق عند إنتهاء الخدمة بما يوازى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 عن كل سنة من سنوات الخدمة. وقد كان المرتب فى السنة الاولى هو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 ويفترض أنه يزداد بمعدل مركب قدره </a:t>
            </a:r>
            <a:r>
              <a:rPr b="0" lang="ar-SA" sz="2000" spc="-1" strike="noStrike">
                <a:solidFill>
                  <a:srgbClr val="000000"/>
                </a:solidFill>
                <a:latin typeface="Times New Roman"/>
              </a:rPr>
              <a:t>7</a:t>
            </a:r>
            <a:r>
              <a:rPr b="0" lang="ar-SA" sz="2000" spc="-1" strike="noStrike">
                <a:solidFill>
                  <a:srgbClr val="000000"/>
                </a:solidFill>
                <a:latin typeface="Times New Roman"/>
              </a:rPr>
              <a:t>% عن كل عام علما بان معدل الخصم هو </a:t>
            </a:r>
            <a:r>
              <a:rPr b="0" lang="ar-SA" sz="2000" spc="-1" strike="noStrike">
                <a:solidFill>
                  <a:srgbClr val="000000"/>
                </a:solidFill>
                <a:latin typeface="Times New Roman"/>
              </a:rPr>
              <a:t>1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تحديد الإلتزام الخاص بمعاشات التقاعد بالنسبة للموظف المذكور الذى من المتوقع ان يترك العمل فى نهاية السنة الخامسة وبإفتراض عدم وجود اى تغييرات فى الإفتراضات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470560" y="2300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380880" y="1219320"/>
          <a:ext cx="8534520" cy="3557520"/>
        </p:xfrm>
        <a:graphic>
          <a:graphicData uri="http://schemas.openxmlformats.org/drawingml/2006/table">
            <a:tbl>
              <a:tblPr/>
              <a:tblGrid>
                <a:gridCol w="1016280"/>
                <a:gridCol w="1015920"/>
                <a:gridCol w="1015920"/>
                <a:gridCol w="1015920"/>
                <a:gridCol w="1015920"/>
                <a:gridCol w="345456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5</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3</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1</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 الذى يرجع الى 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وات الساب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ة الحالية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سنوات السابقة و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ائدة بمعدل </a:t>
                      </a:r>
                      <a:r>
                        <a:rPr b="0" lang="ar-SA" sz="2000" spc="-1" strike="noStrike">
                          <a:solidFill>
                            <a:srgbClr val="000000"/>
                          </a:solidFill>
                          <a:latin typeface="Times New Roman"/>
                        </a:rPr>
                        <a:t>1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7932600" y="457200"/>
            <a:ext cx="617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لاحظات على الحل:</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اول المدة هو القيمة الحالية للمعاش الذى يرجع للسنوات السابق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كلفة الخدمة الحالية هى القيمة الحالية للمعاش الذى يرجع للسنة 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آخر المدة هو القيمة الحالية للمعاش الذى يرجع للسنوات السابقة و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المرتب فى السنة الاولى هو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يزداد بمعدل مركب </a:t>
            </a:r>
            <a:r>
              <a:rPr b="0" lang="ar-SA" sz="1800" spc="-1" strike="noStrike">
                <a:solidFill>
                  <a:srgbClr val="000000"/>
                </a:solidFill>
                <a:latin typeface="Times New Roman"/>
              </a:rPr>
              <a:t>7</a:t>
            </a:r>
            <a:r>
              <a:rPr b="0" lang="ar-SA" sz="1800" spc="-1" strike="noStrike">
                <a:solidFill>
                  <a:srgbClr val="000000"/>
                </a:solidFill>
                <a:latin typeface="Times New Roman"/>
              </a:rPr>
              <a:t>% ليصل الى </a:t>
            </a:r>
            <a:r>
              <a:rPr b="0" lang="ar-SA" sz="1800" spc="-1" strike="noStrike">
                <a:solidFill>
                  <a:srgbClr val="000000"/>
                </a:solidFill>
                <a:latin typeface="Times New Roman"/>
              </a:rPr>
              <a:t>13100</a:t>
            </a:r>
            <a:r>
              <a:rPr b="0" lang="ar-SA" sz="1800" spc="-1" strike="noStrike">
                <a:solidFill>
                  <a:srgbClr val="000000"/>
                </a:solidFill>
                <a:latin typeface="Times New Roman"/>
              </a:rPr>
              <a:t> بحلول العام الخامس، وحيث أن المعاش يبلغ </a:t>
            </a:r>
            <a:r>
              <a:rPr b="0" lang="ar-SA" sz="1800" spc="-1" strike="noStrike">
                <a:solidFill>
                  <a:srgbClr val="000000"/>
                </a:solidFill>
                <a:latin typeface="Times New Roman"/>
              </a:rPr>
              <a:t>1</a:t>
            </a:r>
            <a:r>
              <a:rPr b="0" lang="ar-SA" sz="1800" spc="-1" strike="noStrike">
                <a:solidFill>
                  <a:srgbClr val="000000"/>
                </a:solidFill>
                <a:latin typeface="Times New Roman"/>
              </a:rPr>
              <a:t>% من المرتب النهائى فإن مقداره ي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الإجمالى عن الخمس سنوات يبلغ </a:t>
            </a:r>
            <a:r>
              <a:rPr b="0" lang="ar-SA" sz="1800" spc="-1" strike="noStrike">
                <a:solidFill>
                  <a:srgbClr val="000000"/>
                </a:solidFill>
                <a:latin typeface="Times New Roman"/>
              </a:rPr>
              <a:t>655</a:t>
            </a:r>
            <a:r>
              <a:rPr b="0" lang="ar-SA" sz="1800" spc="-1" strike="noStrike">
                <a:solidFill>
                  <a:srgbClr val="000000"/>
                </a:solidFill>
                <a:latin typeface="Times New Roman"/>
              </a:rPr>
              <a:t> جنيها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 </a:t>
            </a:r>
            <a:r>
              <a:rPr b="0" lang="ar-SA" sz="1800" spc="-1" strike="noStrike">
                <a:solidFill>
                  <a:srgbClr val="000000"/>
                </a:solidFill>
                <a:latin typeface="Times New Roman"/>
              </a:rPr>
              <a:t>5</a:t>
            </a:r>
            <a:r>
              <a:rPr b="0" lang="ar-SA" sz="1800" spc="-1" strike="noStrike">
                <a:solidFill>
                  <a:srgbClr val="000000"/>
                </a:solidFill>
                <a:latin typeface="Times New Roman"/>
              </a:rPr>
              <a:t> سنوات).</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م تحديد تكاليف الخدمة الحالية عن طريق تحديد القيمة الحالية لم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بمعدل خصم </a:t>
            </a:r>
            <a:r>
              <a:rPr b="0" lang="ar-SA" sz="1800" spc="-1" strike="noStrike">
                <a:solidFill>
                  <a:srgbClr val="000000"/>
                </a:solidFill>
                <a:latin typeface="Times New Roman"/>
              </a:rPr>
              <a:t>10</a:t>
            </a:r>
            <a:r>
              <a:rPr b="0" lang="ar-EG" sz="1800" spc="-1" strike="noStrike">
                <a:solidFill>
                  <a:srgbClr val="000000"/>
                </a:solidFill>
                <a:latin typeface="Times New Roman"/>
              </a:rPr>
              <a:t>% </a:t>
            </a:r>
            <a:r>
              <a:rPr b="0" lang="ar-SA" sz="1800" spc="-1" strike="noStrike">
                <a:solidFill>
                  <a:srgbClr val="000000"/>
                </a:solidFill>
                <a:latin typeface="Times New Roman"/>
              </a:rPr>
              <a:t>ليعطى الارقام </a:t>
            </a:r>
            <a:r>
              <a:rPr b="0" lang="ar-SA" sz="1800" spc="-1" strike="noStrike">
                <a:solidFill>
                  <a:srgbClr val="000000"/>
                </a:solidFill>
                <a:latin typeface="Times New Roman"/>
              </a:rPr>
              <a:t>8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08</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1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قد ترتب على ذلك إستثمار تلك المبالغ لتعطى عوائد إستثمار </a:t>
            </a:r>
            <a:r>
              <a:rPr b="0" lang="ar-SA" sz="1800" spc="-1" strike="noStrike">
                <a:solidFill>
                  <a:srgbClr val="000000"/>
                </a:solidFill>
                <a:latin typeface="Times New Roman"/>
              </a:rPr>
              <a:t>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20</a:t>
            </a:r>
            <a:r>
              <a:rPr b="0" lang="ar-SA" sz="1800" spc="-1" strike="noStrike">
                <a:solidFill>
                  <a:srgbClr val="000000"/>
                </a:solidFill>
                <a:latin typeface="Times New Roman"/>
              </a:rPr>
              <a:t> جنيها و </a:t>
            </a:r>
            <a:r>
              <a:rPr b="0" lang="ar-SA" sz="1800" spc="-1" strike="noStrike">
                <a:solidFill>
                  <a:srgbClr val="000000"/>
                </a:solidFill>
                <a:latin typeface="Times New Roman"/>
              </a:rPr>
              <a:t>33</a:t>
            </a:r>
            <a:r>
              <a:rPr b="0" lang="ar-SA" sz="1800" spc="-1" strike="noStrike">
                <a:solidFill>
                  <a:srgbClr val="000000"/>
                </a:solidFill>
                <a:latin typeface="Times New Roman"/>
              </a:rPr>
              <a:t> جنيها و </a:t>
            </a:r>
            <a:r>
              <a:rPr b="0" lang="ar-SA" sz="1800" spc="-1" strike="noStrike">
                <a:solidFill>
                  <a:srgbClr val="000000"/>
                </a:solidFill>
                <a:latin typeface="Times New Roman"/>
              </a:rPr>
              <a:t>48</a:t>
            </a:r>
            <a:r>
              <a:rPr b="0" lang="ar-SA" sz="1800" spc="-1" strike="noStrike">
                <a:solidFill>
                  <a:srgbClr val="000000"/>
                </a:solidFill>
                <a:latin typeface="Times New Roman"/>
              </a:rPr>
              <a:t> جنيها وبالتالى ينتج عن ذلك الإجمالى المطلوب لسداد المعاش فى نهاية الخدمة وقدره </a:t>
            </a:r>
            <a:r>
              <a:rPr b="0" lang="ar-SA" sz="1800" spc="-1" strike="noStrike">
                <a:solidFill>
                  <a:srgbClr val="000000"/>
                </a:solidFill>
                <a:latin typeface="Times New Roman"/>
              </a:rPr>
              <a:t>655</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685800"/>
            <a:ext cx="853416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ديم خطة معاشات جديدة او تحسين خطة المعاشات ال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تم تقديم خطة معاشات جديدة أو إجراء تحسين فى خطة المعاشات القائمة بما يعطى للموظفين عادة حقوق المعاشات عن سنوات الخدمة السابقة على تقديم الخطة او إجراء التحسي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تغطية تكاليف هذه الخدمات السابقة يقوم صاحب العمل بإنشاء إلتزام كبير يجب الإعتراف به. وتعتمد طريقة المحاسبة عن هذه التكاليف على أسلوب الحصول على المعاش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كان للموظفين الحق فى الحصول على المعاشات فى ظل الخطة فورا فعندئذ فإن هذه المعاشات تعتبر مستحقة ويجب الإعتراف بالتكلفة فور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أصبح من حق الموظفين الحصول على المعاش فى تاريخ لاحق فيصبح عندئذ المعاش مستحق فى ذلك التاريخ اللاحق وبالتالى يتم توزيع التكاليف على أساس القسط الثابت على الفترة حتى تاريخ الإستحقا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762120"/>
            <a:ext cx="8381880" cy="6388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دير إحدى المنشآت خطة معاشات تقدم معاش بنسبة </a:t>
            </a:r>
            <a:r>
              <a:rPr b="0" lang="ar-SA" sz="2000" spc="-1" strike="noStrike">
                <a:solidFill>
                  <a:srgbClr val="000000"/>
                </a:solidFill>
                <a:latin typeface="Times New Roman"/>
              </a:rPr>
              <a:t>2</a:t>
            </a:r>
            <a:r>
              <a:rPr b="0" lang="ar-SA" sz="2000" spc="-1" strike="noStrike">
                <a:solidFill>
                  <a:srgbClr val="000000"/>
                </a:solidFill>
                <a:latin typeface="Times New Roman"/>
              </a:rPr>
              <a:t>% من المرتب النهائى لكل سنة من سنوات الخدمة، وتصبح المعاشات مستحقة بعد خمس سنوات من الخدمة. وف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قامت الشركة بتحسين المعاش ليصبح </a:t>
            </a:r>
            <a:r>
              <a:rPr b="0" lang="ar-SA" sz="2000" spc="-1" strike="noStrike">
                <a:solidFill>
                  <a:srgbClr val="000000"/>
                </a:solidFill>
                <a:latin typeface="Times New Roman"/>
              </a:rPr>
              <a:t>2.5</a:t>
            </a:r>
            <a:r>
              <a:rPr b="0" lang="ar-SA" sz="2000" spc="-1" strike="noStrike">
                <a:solidFill>
                  <a:srgbClr val="000000"/>
                </a:solidFill>
                <a:latin typeface="Times New Roman"/>
              </a:rPr>
              <a:t>% من المرتب النهائى عن كل سنة من سنوات الخدمة بدءا من أ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وفى تاريخ التحسين كانت القيمة الحالية للمعاشات الإضافية عن الخدمة من ا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حت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على النحو التالى:</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كثر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5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قل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2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سوف تعترف المنشاة بمبلغ </a:t>
            </a:r>
            <a:r>
              <a:rPr b="0" lang="ar-SA" sz="2000" spc="-1" strike="noStrike">
                <a:solidFill>
                  <a:srgbClr val="000000"/>
                </a:solidFill>
                <a:latin typeface="Times New Roman"/>
              </a:rPr>
              <a:t>150</a:t>
            </a:r>
            <a:r>
              <a:rPr b="0" lang="ar-SA" sz="2000" spc="-1" strike="noStrike">
                <a:solidFill>
                  <a:srgbClr val="000000"/>
                </a:solidFill>
                <a:latin typeface="Times New Roman"/>
              </a:rPr>
              <a:t> جنيها فورا بإعتبارها معاشات مستحقة بالفعل. وتعترف المنشأة بمبلغ </a:t>
            </a:r>
            <a:r>
              <a:rPr b="0" lang="ar-SA" sz="2000" spc="-1" strike="noStrike">
                <a:solidFill>
                  <a:srgbClr val="000000"/>
                </a:solidFill>
                <a:latin typeface="Times New Roman"/>
              </a:rPr>
              <a:t>120</a:t>
            </a:r>
            <a:r>
              <a:rPr b="0" lang="ar-SA" sz="2000" spc="-1" strike="noStrike">
                <a:solidFill>
                  <a:srgbClr val="000000"/>
                </a:solidFill>
                <a:latin typeface="Times New Roman"/>
              </a:rPr>
              <a:t> جنيها على مدار ثلاث سنوات بطريقة القسط الثابت إعتبارا من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457200"/>
            <a:ext cx="8610480" cy="646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طالما يعتمد الإلتزام المعترف به لخطة المعاش المحدد على عدد من الإفتراضات، فإنه بمرور الزمن سوف تنشأ الفروق بينها وبين الأحداث الفعلية وذلك على أساس أن التنفيذ الفعلى لا يتطابق مع التقديرات الاصلية (يطلق على هذه الفروق تعديلات الخبرة). هذا بالإضافة الى التغييرات فى الإكتوارية فى ضوء الأحداث. ويطلق على الأثر المجمع لهذه التغييرات فى موقف الخطة بالارباح والخسائر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لإعتراف بالأرباح والخسائر الناتجة عن تعديلات الخبرة وتعديلات الإفتراضات الإكتوارية إذا زادت عن القيمة الأكبر 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إلتزام الخط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أصول الخط.</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معترف به بالميزانية قد ينحرف فى حدود </a:t>
            </a:r>
            <a:r>
              <a:rPr b="0" lang="ar-SA" sz="2000" spc="-1" strike="noStrike">
                <a:solidFill>
                  <a:srgbClr val="000000"/>
                </a:solidFill>
                <a:latin typeface="Times New Roman"/>
              </a:rPr>
              <a:t>10</a:t>
            </a:r>
            <a:r>
              <a:rPr b="0" lang="ar-SA" sz="2000" spc="-1" strike="noStrike">
                <a:solidFill>
                  <a:srgbClr val="000000"/>
                </a:solidFill>
                <a:latin typeface="Times New Roman"/>
              </a:rPr>
              <a:t>%، ولكن بمجرد أن يزيد الإلتزام عن </a:t>
            </a:r>
            <a:r>
              <a:rPr b="0" lang="ar-SA" sz="2000" spc="-1" strike="noStrike">
                <a:solidFill>
                  <a:srgbClr val="000000"/>
                </a:solidFill>
                <a:latin typeface="Times New Roman"/>
              </a:rPr>
              <a:t>10</a:t>
            </a:r>
            <a:r>
              <a:rPr b="0" lang="ar-SA" sz="2000" spc="-1" strike="noStrike">
                <a:solidFill>
                  <a:srgbClr val="000000"/>
                </a:solidFill>
                <a:latin typeface="Times New Roman"/>
              </a:rPr>
              <a:t>% عن التقدير الحالى لإلتزامات أو أصول الخطة فإنه يجب الإعتراف بالربح أو الخسارة لتعديل الإلتزام ليصبح مرة أخرى داخل الحدود. ويجب ان يكون معلوما انه ليس هناك حاجة الى الإعتراف بكامل الربح أو الخسارة فورا فقد يتم توزيعها على متوسط مدد عمل الموظفين المتبقية المتوق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8880" y="2506680"/>
            <a:ext cx="18432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533520" y="2057400"/>
          <a:ext cx="8076960" cy="4063680"/>
        </p:xfrm>
        <a:graphic>
          <a:graphicData uri="http://schemas.openxmlformats.org/drawingml/2006/table">
            <a:tbl>
              <a:tblPr/>
              <a:tblGrid>
                <a:gridCol w="1294920"/>
                <a:gridCol w="1219320"/>
                <a:gridCol w="1143000"/>
                <a:gridCol w="44197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عر الخصم (سعر الفائد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دل العائد المتوقع على أصول الخط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مدد العمل المتبقية المتوقعة (ب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457200" y="380880"/>
            <a:ext cx="82296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فيما يلى المعلومات المتعلقة بخطة المعاش المحدد الممولة بإفتراض ان كل المعاملات تحدث فى نهاية العام وأن القيمة الحالية للإلتزام </a:t>
            </a:r>
            <a:r>
              <a:rPr b="0" lang="ar-SA" sz="2000" spc="-1" strike="noStrike">
                <a:solidFill>
                  <a:srgbClr val="000000"/>
                </a:solidFill>
                <a:latin typeface="Times New Roman"/>
              </a:rPr>
              <a:t>1000</a:t>
            </a:r>
            <a:r>
              <a:rPr b="0" lang="ar-SA" sz="2000" spc="-1" strike="noStrike">
                <a:solidFill>
                  <a:srgbClr val="000000"/>
                </a:solidFill>
                <a:latin typeface="Times New Roman"/>
              </a:rPr>
              <a:t> 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و القيمة العادلة لأصول الخطة </a:t>
            </a:r>
            <a:r>
              <a:rPr b="0" lang="ar-SA" sz="2000" spc="-1" strike="noStrike">
                <a:solidFill>
                  <a:srgbClr val="000000"/>
                </a:solidFill>
                <a:latin typeface="Times New Roman"/>
              </a:rPr>
              <a:t>1000</a:t>
            </a:r>
            <a:r>
              <a:rPr b="0" lang="ar-SA" sz="2000" spc="-1" strike="noStrike">
                <a:solidFill>
                  <a:srgbClr val="000000"/>
                </a:solidFill>
                <a:latin typeface="Times New Roman"/>
              </a:rPr>
              <a:t>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فى حين كانت صافى الأرباح الإكتوارية غير المعترف بها فى ذلك التاريخ هى </a:t>
            </a:r>
            <a:r>
              <a:rPr b="0" lang="ar-SA" sz="2000" spc="-1" strike="noStrike">
                <a:solidFill>
                  <a:srgbClr val="000000"/>
                </a:solidFill>
                <a:latin typeface="Times New Roman"/>
              </a:rPr>
              <a:t>14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33520"/>
            <a:ext cx="86104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اولى:</a:t>
            </a:r>
            <a:r>
              <a:rPr b="0" lang="ar-SA" sz="2000" spc="-1" strike="noStrike">
                <a:solidFill>
                  <a:srgbClr val="000000"/>
                </a:solidFill>
                <a:latin typeface="Times New Roman"/>
              </a:rPr>
              <a:t> هى تلخيص الأرقام السابقة لتحديد مبلغ الارباح أو الخسائر الإكتوارية عن الفترة. إن القيم الحالية للإلتزامات فى نهاية كل سنة وكذا القيم العادلة لأصول الخطة معلومة لذلك يتم إيجاد الارباح او الخسائر الإكتوارية كأرقام أرصدة او متمم حسابى الذى يتحدد على النحو التالى: </a:t>
            </a:r>
            <a:endParaRPr b="0" lang="en-US" sz="2000" spc="-1" strike="noStrike">
              <a:solidFill>
                <a:srgbClr val="000000"/>
              </a:solidFill>
              <a:latin typeface="Times New Roman"/>
            </a:endParaRPr>
          </a:p>
        </p:txBody>
      </p:sp>
      <p:sp>
        <p:nvSpPr>
          <p:cNvPr id="65"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304920" y="1676520"/>
          <a:ext cx="8458200" cy="4064040"/>
        </p:xfrm>
        <a:graphic>
          <a:graphicData uri="http://schemas.openxmlformats.org/drawingml/2006/table">
            <a:tbl>
              <a:tblPr/>
              <a:tblGrid>
                <a:gridCol w="1219320"/>
                <a:gridCol w="1295280"/>
                <a:gridCol w="1219320"/>
                <a:gridCol w="4724280"/>
              </a:tblGrid>
              <a:tr h="531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رصيد الإلتزام * سعر الفائدة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7</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الإلتزام (رصيد أو متم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380880" y="762120"/>
          <a:ext cx="8458200" cy="4424400"/>
        </p:xfrm>
        <a:graphic>
          <a:graphicData uri="http://schemas.openxmlformats.org/drawingml/2006/table">
            <a:tbl>
              <a:tblPr/>
              <a:tblGrid>
                <a:gridCol w="1219320"/>
                <a:gridCol w="1295280"/>
                <a:gridCol w="1219320"/>
                <a:gridCol w="4724280"/>
              </a:tblGrid>
              <a:tr h="5472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1/1</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قيمة العادلة * العائد المتوقع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أو متمم حساب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80880" y="556272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7621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سرى المعيار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 " تكلفة معاشات التقاعد" ع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جميع ميزات التقاعد المدرجة فى نظام معاشات التقاعد بغض النظر عن طريقة وصفها وما إذا كان النظام رسمى أو غير رسمى ممولا أو غير ممول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كون المنشأة ملزمة طبقا للقوانين أو النظم المعمول بها ان تشارك فى نظام التقاعد على مستوى الدول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تفاقيات الخاصة بإنهاء الخدمة التى تستوفى شروط تعريف نظم معاشات التقاعد المتمثل فى الترتيبات التى تقوم بموجبها المنشأة بتقديم معاشات لموظفيها عند او بعد إنتهاء خدمتهم سواء كان ذلك فى شكل دخل دورى أو مبلغ مقطوع يدفع مر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685800"/>
            <a:ext cx="8534160" cy="497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ى إجراء الحسابات سنة بسنة لأن أرقام آخر المدة تكون هى أرقام اول المدة عن السنة الت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حساب أرقام تكلفة الفائدة عن طريق تطبيق معدل الخصم أو سعر الفائدة المعطى على قيم الإلتزام أ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هى الزيادة فى القيمة الحالية للإلتزام الناتجة عن خدمة الموظف فى السنة الح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تخفض الإلتزام.</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أرباح أو الخسائر الإكتوارية كأرصدة أو كمتمم حسابى.</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الحصول على العائد المتوقع على أصول الخطة عن طريق تطبيق النسبة المئوية للعائد المعطى على قيم أصول الخطة فى ا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المقدمة من صاحب العمل عن العام يتم إعطائها وتزيد من أ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يتم إعطائها وتخفض من ا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أو الخسائر الإكتوارية على أصول الخطة تظهر كأرصدة أو كمتمم حساب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533520"/>
            <a:ext cx="7772400" cy="2228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خطوة الثانية:</a:t>
            </a:r>
            <a:r>
              <a:rPr b="0" lang="ar-EG" sz="2000" spc="-1" strike="noStrike">
                <a:solidFill>
                  <a:srgbClr val="000000"/>
                </a:solidFill>
                <a:latin typeface="Times New Roman"/>
              </a:rPr>
              <a:t> تحديد الحدود التى سيتم بناء عليها قياس الإنحراف الناتج عن تعديلات الخطة</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تحديد حدود التقدير وهى الأكبر مما يلى:</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10%</a:t>
            </a:r>
            <a:r>
              <a:rPr b="0" lang="ar-EG" sz="2000" spc="-1" strike="noStrike">
                <a:solidFill>
                  <a:srgbClr val="000000"/>
                </a:solidFill>
                <a:latin typeface="Times New Roman"/>
              </a:rPr>
              <a:t> من القيمة الحالية للإلتزام قبل خصم أصول الخطة</a:t>
            </a: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قيمة العادلة لأصول الخطة</a:t>
            </a:r>
            <a:endParaRPr b="0" lang="en-US" sz="2000" spc="-1" strike="noStrike">
              <a:solidFill>
                <a:srgbClr val="000000"/>
              </a:solidFill>
              <a:latin typeface="Times New Roman"/>
            </a:endParaRPr>
          </a:p>
        </p:txBody>
      </p:sp>
      <p:graphicFrame>
        <p:nvGraphicFramePr>
          <p:cNvPr id="73" name=""/>
          <p:cNvGraphicFramePr/>
          <p:nvPr/>
        </p:nvGraphicFramePr>
        <p:xfrm>
          <a:off x="685800" y="2743200"/>
          <a:ext cx="8077320" cy="3352680"/>
        </p:xfrm>
        <a:graphic>
          <a:graphicData uri="http://schemas.openxmlformats.org/drawingml/2006/table">
            <a:tbl>
              <a:tblPr/>
              <a:tblGrid>
                <a:gridCol w="1523880"/>
                <a:gridCol w="1524240"/>
                <a:gridCol w="1523880"/>
                <a:gridCol w="3505320"/>
              </a:tblGrid>
              <a:tr h="8380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8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إلتزامات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أصول الخطة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دود التقدير (الأكب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a:t>
            </a:r>
            <a:r>
              <a:rPr b="0" lang="ar-SA" sz="2000" spc="-1" strike="noStrike">
                <a:solidFill>
                  <a:srgbClr val="000000"/>
                </a:solidFill>
                <a:latin typeface="Times New Roman"/>
              </a:rPr>
              <a:t> تحديد مدى الحاجة الى الإعتراف بأى أرباح أو خسائر إكتوارية (تحديد ما إذا كان صافى الارباح او الخسائر المتراكمة غير المعترف بها تقع خارج الحدود المقدرة.</a:t>
            </a:r>
            <a:endParaRPr b="0" lang="en-US" sz="2000" spc="-1" strike="noStrike">
              <a:solidFill>
                <a:srgbClr val="000000"/>
              </a:solidFill>
              <a:latin typeface="Times New Roman"/>
            </a:endParaRPr>
          </a:p>
        </p:txBody>
      </p:sp>
      <p:graphicFrame>
        <p:nvGraphicFramePr>
          <p:cNvPr id="75" name=""/>
          <p:cNvGraphicFramePr/>
          <p:nvPr/>
        </p:nvGraphicFramePr>
        <p:xfrm>
          <a:off x="228600" y="990720"/>
          <a:ext cx="8763120" cy="4411440"/>
        </p:xfrm>
        <a:graphic>
          <a:graphicData uri="http://schemas.openxmlformats.org/drawingml/2006/table">
            <a:tbl>
              <a:tblPr/>
              <a:tblGrid>
                <a:gridCol w="1219320"/>
                <a:gridCol w="1218960"/>
                <a:gridCol w="1295640"/>
                <a:gridCol w="502920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رباح (الخسائر) الإكتوارية المتراكمة غير المعترف بها</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دود التقدير فى </a:t>
                      </a:r>
                      <a:r>
                        <a:rPr b="0" lang="ar-SA" sz="1800" spc="-1" strike="noStrike">
                          <a:solidFill>
                            <a:srgbClr val="000000"/>
                          </a:solidFill>
                          <a:latin typeface="Times New Roman"/>
                        </a:rPr>
                        <a:t>1/1</a:t>
                      </a:r>
                      <a:r>
                        <a:rPr b="0" lang="ar-SA" sz="1800" spc="-1" strike="noStrike">
                          <a:solidFill>
                            <a:srgbClr val="000000"/>
                          </a:solidFill>
                          <a:latin typeface="Times New Roman"/>
                        </a:rPr>
                        <a:t> كما هى محددة فى الخطوة السابق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زيادة (</a:t>
                      </a:r>
                      <a:r>
                        <a:rPr b="0" lang="ar-SA" sz="1800" spc="-1" strike="noStrike">
                          <a:solidFill>
                            <a:srgbClr val="000000"/>
                          </a:solidFill>
                          <a:latin typeface="Times New Roman"/>
                        </a:rPr>
                        <a:t>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توسط مدة العمل المتبقية المتوقعة (السنوات) (</a:t>
                      </a:r>
                      <a:r>
                        <a:rPr b="0" lang="ar-SA" sz="1800" spc="-1" strike="noStrike">
                          <a:solidFill>
                            <a:srgbClr val="000000"/>
                          </a:solidFill>
                          <a:latin typeface="Times New Roman"/>
                        </a:rPr>
                        <a:t>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تى يجب الإعتراف بها (</a:t>
                      </a:r>
                      <a:r>
                        <a:rPr b="0" lang="ar-SA" sz="1800" spc="-1" strike="noStrike">
                          <a:solidFill>
                            <a:srgbClr val="000000"/>
                          </a:solidFill>
                          <a:latin typeface="Times New Roman"/>
                        </a:rPr>
                        <a:t>1/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تراكمة غير المعترف بها فى </a:t>
                      </a:r>
                      <a:r>
                        <a:rPr b="0" lang="ar-SA"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ن العام – إلتزا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عن العام –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عترف بها (القسط)</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7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غير المعترف بها فى </a:t>
                      </a:r>
                      <a:r>
                        <a:rPr b="0" lang="ar-SA" sz="1800" spc="-1" strike="noStrike">
                          <a:solidFill>
                            <a:srgbClr val="000000"/>
                          </a:solidFill>
                          <a:latin typeface="Times New Roman"/>
                        </a:rPr>
                        <a:t>31/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7924680" y="5562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5313240" y="5638680"/>
            <a:ext cx="3465720" cy="149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1800" spc="-1" strike="noStrike">
                <a:solidFill>
                  <a:srgbClr val="000000"/>
                </a:solidFill>
                <a:latin typeface="Times New Roman"/>
              </a:rPr>
              <a:t>* هذا الرقم معطى ضمن بيانات المثا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40</a:t>
            </a:r>
            <a:r>
              <a:rPr b="0" lang="ar-SA" sz="1800" spc="-1" strike="noStrike">
                <a:solidFill>
                  <a:srgbClr val="000000"/>
                </a:solidFill>
                <a:latin typeface="Times New Roman"/>
              </a:rPr>
              <a:t> – </a:t>
            </a:r>
            <a:r>
              <a:rPr b="0" lang="ar-SA" sz="1800" spc="-1" strike="noStrike">
                <a:solidFill>
                  <a:srgbClr val="000000"/>
                </a:solidFill>
                <a:latin typeface="Times New Roman"/>
              </a:rPr>
              <a:t>61</a:t>
            </a:r>
            <a:r>
              <a:rPr b="0" lang="ar-SA" sz="1800" spc="-1" strike="noStrike">
                <a:solidFill>
                  <a:srgbClr val="000000"/>
                </a:solidFill>
                <a:latin typeface="Times New Roman"/>
              </a:rPr>
              <a:t> + </a:t>
            </a:r>
            <a:r>
              <a:rPr b="0" lang="ar-SA" sz="1800" spc="-1" strike="noStrike">
                <a:solidFill>
                  <a:srgbClr val="000000"/>
                </a:solidFill>
                <a:latin typeface="Times New Roman"/>
              </a:rPr>
              <a:t>32</a:t>
            </a:r>
            <a:r>
              <a:rPr b="0" lang="ar-SA" sz="1800" spc="-1" strike="noStrike">
                <a:solidFill>
                  <a:srgbClr val="000000"/>
                </a:solidFill>
                <a:latin typeface="Times New Roman"/>
              </a:rPr>
              <a:t> = (</a:t>
            </a:r>
            <a:r>
              <a:rPr b="0" lang="ar-SA" sz="1800" spc="-1" strike="noStrike">
                <a:solidFill>
                  <a:srgbClr val="000000"/>
                </a:solidFill>
                <a:latin typeface="Times New Roman"/>
              </a:rPr>
              <a:t>111</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07</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07</a:t>
            </a:r>
            <a:r>
              <a:rPr b="0" lang="ar-SA" sz="1800" spc="-1" strike="noStrike">
                <a:solidFill>
                  <a:srgbClr val="000000"/>
                </a:solidFill>
                <a:latin typeface="Times New Roman"/>
              </a:rPr>
              <a:t> + </a:t>
            </a:r>
            <a:r>
              <a:rPr b="0" lang="ar-SA" sz="1800" spc="-1" strike="noStrike">
                <a:solidFill>
                  <a:srgbClr val="000000"/>
                </a:solidFill>
                <a:latin typeface="Times New Roman"/>
              </a:rPr>
              <a:t>87</a:t>
            </a:r>
            <a:r>
              <a:rPr b="0" lang="ar-SA" sz="1800" spc="-1" strike="noStrike">
                <a:solidFill>
                  <a:srgbClr val="000000"/>
                </a:solidFill>
                <a:latin typeface="Times New Roman"/>
              </a:rPr>
              <a:t> – </a:t>
            </a:r>
            <a:r>
              <a:rPr b="0" lang="ar-SA" sz="1800" spc="-1" strike="noStrike">
                <a:solidFill>
                  <a:srgbClr val="000000"/>
                </a:solidFill>
                <a:latin typeface="Times New Roman"/>
              </a:rPr>
              <a:t>24</a:t>
            </a:r>
            <a:r>
              <a:rPr b="0" lang="ar-SA" sz="1800" spc="-1" strike="noStrike">
                <a:solidFill>
                  <a:srgbClr val="000000"/>
                </a:solidFill>
                <a:latin typeface="Times New Roman"/>
              </a:rPr>
              <a:t> = </a:t>
            </a:r>
            <a:r>
              <a:rPr b="0" lang="ar-SA" sz="1800" spc="-1" strike="noStrike">
                <a:solidFill>
                  <a:srgbClr val="000000"/>
                </a:solidFill>
                <a:latin typeface="Times New Roman"/>
              </a:rPr>
              <a:t>17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8458200" cy="7913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عام </a:t>
            </a:r>
            <a:r>
              <a:rPr b="0" lang="ar-SA" sz="2000" spc="-1" strike="noStrike">
                <a:solidFill>
                  <a:srgbClr val="000000"/>
                </a:solidFill>
                <a:latin typeface="Times New Roman"/>
              </a:rPr>
              <a:t>2001</a:t>
            </a:r>
            <a:r>
              <a:rPr b="0" lang="ar-SA" sz="2000" spc="-1" strike="noStrike">
                <a:solidFill>
                  <a:srgbClr val="000000"/>
                </a:solidFill>
                <a:latin typeface="Times New Roman"/>
              </a:rPr>
              <a:t> هناك ارباح إكتوارية أول المدة بمبلغ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معطى) وبالتالى يوجد </a:t>
            </a:r>
            <a:r>
              <a:rPr b="0" lang="ar-SA" sz="2000" spc="-1" strike="noStrike">
                <a:solidFill>
                  <a:srgbClr val="000000"/>
                </a:solidFill>
                <a:latin typeface="Times New Roman"/>
              </a:rPr>
              <a:t>40</a:t>
            </a:r>
            <a:r>
              <a:rPr b="0" lang="ar-SA" sz="2000" spc="-1" strike="noStrike">
                <a:solidFill>
                  <a:srgbClr val="000000"/>
                </a:solidFill>
                <a:latin typeface="Times New Roman"/>
              </a:rPr>
              <a:t> جنيها خارج حدود التقدير وقدرها </a:t>
            </a:r>
            <a:r>
              <a:rPr b="0" lang="ar-SA" sz="2000" spc="-1" strike="noStrike">
                <a:solidFill>
                  <a:srgbClr val="000000"/>
                </a:solidFill>
                <a:latin typeface="Times New Roman"/>
              </a:rPr>
              <a:t>100</a:t>
            </a:r>
            <a:r>
              <a:rPr b="0" lang="ar-SA" sz="2000" spc="-1" strike="noStrike">
                <a:solidFill>
                  <a:srgbClr val="000000"/>
                </a:solidFill>
                <a:latin typeface="Times New Roman"/>
              </a:rPr>
              <a:t> جنيها. لذلك يجب الإعتراف بربح قدره </a:t>
            </a:r>
            <a:r>
              <a:rPr b="0" lang="ar-SA" sz="2000" spc="-1" strike="noStrike">
                <a:solidFill>
                  <a:srgbClr val="000000"/>
                </a:solidFill>
                <a:latin typeface="Times New Roman"/>
              </a:rPr>
              <a:t>4</a:t>
            </a:r>
            <a:r>
              <a:rPr b="0" lang="ar-SA" sz="2000" spc="-1" strike="noStrike">
                <a:solidFill>
                  <a:srgbClr val="000000"/>
                </a:solidFill>
                <a:latin typeface="Times New Roman"/>
              </a:rPr>
              <a:t> جنيه فى قائمة الدخل بإعتبار أن الـ </a:t>
            </a:r>
            <a:r>
              <a:rPr b="0" lang="ar-SA" sz="2000" spc="-1" strike="noStrike">
                <a:solidFill>
                  <a:srgbClr val="000000"/>
                </a:solidFill>
                <a:latin typeface="Times New Roman"/>
              </a:rPr>
              <a:t>40</a:t>
            </a:r>
            <a:r>
              <a:rPr b="0" lang="ar-SA" sz="2000" spc="-1" strike="noStrike">
                <a:solidFill>
                  <a:srgbClr val="000000"/>
                </a:solidFill>
                <a:latin typeface="Times New Roman"/>
              </a:rPr>
              <a:t> جنيها يتم توزيعها على مدار </a:t>
            </a:r>
            <a:r>
              <a:rPr b="0" lang="ar-SA" sz="2000" spc="-1" strike="noStrike">
                <a:solidFill>
                  <a:srgbClr val="000000"/>
                </a:solidFill>
                <a:latin typeface="Times New Roman"/>
              </a:rPr>
              <a:t>10</a:t>
            </a:r>
            <a:r>
              <a:rPr b="0" lang="ar-SA" sz="2000" spc="-1" strike="noStrike">
                <a:solidFill>
                  <a:srgbClr val="000000"/>
                </a:solidFill>
                <a:latin typeface="Times New Roman"/>
              </a:rPr>
              <a:t> سنوات تمثل مدة الخدمة المستقبلية للموظفين.</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 تحديد الأرباح الإكتوارية غير المعترف بها فى نهاية عام </a:t>
            </a:r>
            <a:r>
              <a:rPr b="0" lang="ar-SA" sz="2000" spc="-1" strike="noStrike">
                <a:solidFill>
                  <a:srgbClr val="000000"/>
                </a:solidFill>
                <a:latin typeface="Times New Roman"/>
              </a:rPr>
              <a:t>2001</a:t>
            </a:r>
            <a:r>
              <a:rPr b="0" lang="ar-SA" sz="2000" spc="-1" strike="noStrike">
                <a:solidFill>
                  <a:srgbClr val="000000"/>
                </a:solidFill>
                <a:latin typeface="Times New Roman"/>
              </a:rPr>
              <a:t> عن طريق الحصول على الخسارة الناتجة عن إلتزام الخطة والارباح على أصول الخطة (من الخطوة الاولى)</a:t>
            </a:r>
            <a:endParaRPr b="0" lang="en-US" sz="2000" spc="-1" strike="noStrike">
              <a:solidFill>
                <a:srgbClr val="000000"/>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اول المدة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 خسارة الإلتزامات </a:t>
            </a:r>
            <a:r>
              <a:rPr b="0" lang="ar-SA" sz="2000" spc="-1" strike="noStrike">
                <a:solidFill>
                  <a:srgbClr val="000000"/>
                </a:solidFill>
                <a:latin typeface="Times New Roman"/>
              </a:rPr>
              <a:t>61</a:t>
            </a:r>
            <a:r>
              <a:rPr b="0" lang="ar-SA" sz="2000" spc="-1" strike="noStrike">
                <a:solidFill>
                  <a:srgbClr val="000000"/>
                </a:solidFill>
                <a:latin typeface="Times New Roman"/>
              </a:rPr>
              <a:t> جنيها + أرباح الاصول </a:t>
            </a:r>
            <a:r>
              <a:rPr b="0" lang="ar-SA" sz="2000" spc="-1" strike="noStrike">
                <a:solidFill>
                  <a:srgbClr val="000000"/>
                </a:solidFill>
                <a:latin typeface="Times New Roman"/>
              </a:rPr>
              <a:t>32</a:t>
            </a:r>
            <a:r>
              <a:rPr b="0" lang="ar-SA" sz="2000" spc="-1" strike="noStrike">
                <a:solidFill>
                  <a:srgbClr val="000000"/>
                </a:solidFill>
                <a:latin typeface="Times New Roman"/>
              </a:rPr>
              <a:t> جنيها = رصيد آخر المدة </a:t>
            </a:r>
            <a:r>
              <a:rPr b="0" lang="ar-SA" sz="2000" spc="-1" strike="noStrike">
                <a:solidFill>
                  <a:srgbClr val="000000"/>
                </a:solidFill>
                <a:latin typeface="Times New Roman"/>
              </a:rPr>
              <a:t>111</a:t>
            </a:r>
            <a:r>
              <a:rPr b="0" lang="ar-SA" sz="2000" spc="-1" strike="noStrike">
                <a:solidFill>
                  <a:srgbClr val="000000"/>
                </a:solidFill>
                <a:latin typeface="Times New Roman"/>
              </a:rPr>
              <a:t> جنيها تم تخفيضه الى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حيث تم الإعتراف بمبلغ </a:t>
            </a:r>
            <a:r>
              <a:rPr b="0" lang="ar-SA" sz="2000" spc="-1" strike="noStrike">
                <a:solidFill>
                  <a:srgbClr val="000000"/>
                </a:solidFill>
                <a:latin typeface="Times New Roman"/>
              </a:rPr>
              <a:t>4</a:t>
            </a:r>
            <a:r>
              <a:rPr b="0" lang="ar-SA" sz="2000" spc="-1" strike="noStrike">
                <a:solidFill>
                  <a:srgbClr val="000000"/>
                </a:solidFill>
                <a:latin typeface="Times New Roman"/>
              </a:rPr>
              <a:t> جنيه بقائمة الدخل)</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اول المد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يبلغ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ويقع داخل الحدود المقدرة وبالتالى ليس هناك حاجة الى الإعتراف بأية أرباح او خسائر.</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كز المتراكم فى نهاية عام </a:t>
            </a:r>
            <a:r>
              <a:rPr b="0" lang="ar-SA" sz="2000" spc="-1" strike="noStrike">
                <a:solidFill>
                  <a:srgbClr val="000000"/>
                </a:solidFill>
                <a:latin typeface="Times New Roman"/>
              </a:rPr>
              <a:t>2002</a:t>
            </a:r>
            <a:r>
              <a:rPr b="0" lang="ar-SA" sz="2000" spc="-1" strike="noStrike">
                <a:solidFill>
                  <a:srgbClr val="000000"/>
                </a:solidFill>
                <a:latin typeface="Times New Roman"/>
              </a:rPr>
              <a:t> تم تحديده عن طريق الحصول على الأرباح على الإلتزام والخسارة على اصول الخطة (من الخطوة الاولى) (</a:t>
            </a:r>
            <a:r>
              <a:rPr b="0" lang="ar-SA" sz="2000" spc="-1" strike="noStrike">
                <a:solidFill>
                  <a:srgbClr val="000000"/>
                </a:solidFill>
                <a:latin typeface="Times New Roman"/>
              </a:rPr>
              <a:t>107</a:t>
            </a:r>
            <a:r>
              <a:rPr b="0" lang="ar-SA" sz="2000" spc="-1" strike="noStrike">
                <a:solidFill>
                  <a:srgbClr val="000000"/>
                </a:solidFill>
                <a:latin typeface="Times New Roman"/>
              </a:rPr>
              <a:t> + </a:t>
            </a:r>
            <a:r>
              <a:rPr b="0" lang="ar-SA" sz="2000" spc="-1" strike="noStrike">
                <a:solidFill>
                  <a:srgbClr val="000000"/>
                </a:solidFill>
                <a:latin typeface="Times New Roman"/>
              </a:rPr>
              <a:t>87</a:t>
            </a:r>
            <a:r>
              <a:rPr b="0" lang="ar-SA" sz="2000" spc="-1" strike="noStrike">
                <a:solidFill>
                  <a:srgbClr val="000000"/>
                </a:solidFill>
                <a:latin typeface="Times New Roman"/>
              </a:rPr>
              <a:t> – </a:t>
            </a:r>
            <a:r>
              <a:rPr b="0" lang="ar-SA" sz="2000" spc="-1" strike="noStrike">
                <a:solidFill>
                  <a:srgbClr val="000000"/>
                </a:solidFill>
                <a:latin typeface="Times New Roman"/>
              </a:rPr>
              <a:t>24</a:t>
            </a:r>
            <a:r>
              <a:rPr b="0" lang="ar-SA" sz="2000" spc="-1" strike="noStrike">
                <a:solidFill>
                  <a:srgbClr val="000000"/>
                </a:solidFill>
                <a:latin typeface="Times New Roman"/>
              </a:rPr>
              <a:t>) = </a:t>
            </a:r>
            <a:r>
              <a:rPr b="0" lang="ar-SA" sz="2000" spc="-1" strike="noStrike">
                <a:solidFill>
                  <a:srgbClr val="000000"/>
                </a:solidFill>
                <a:latin typeface="Times New Roman"/>
              </a:rPr>
              <a:t>17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أول عام </a:t>
            </a:r>
            <a:r>
              <a:rPr b="0" lang="ar-SA" sz="2000" spc="-1" strike="noStrike">
                <a:solidFill>
                  <a:srgbClr val="000000"/>
                </a:solidFill>
                <a:latin typeface="Times New Roman"/>
              </a:rPr>
              <a:t>2003</a:t>
            </a:r>
            <a:r>
              <a:rPr b="0" lang="ar-SA" sz="2000" spc="-1" strike="noStrike">
                <a:solidFill>
                  <a:srgbClr val="000000"/>
                </a:solidFill>
                <a:latin typeface="Times New Roman"/>
              </a:rPr>
              <a:t> قدره </a:t>
            </a:r>
            <a:r>
              <a:rPr b="0" lang="ar-SA" sz="2000" spc="-1" strike="noStrike">
                <a:solidFill>
                  <a:srgbClr val="000000"/>
                </a:solidFill>
                <a:latin typeface="Times New Roman"/>
              </a:rPr>
              <a:t>170</a:t>
            </a:r>
            <a:r>
              <a:rPr b="0" lang="ar-SA" sz="2000" spc="-1" strike="noStrike">
                <a:solidFill>
                  <a:srgbClr val="000000"/>
                </a:solidFill>
                <a:latin typeface="Times New Roman"/>
              </a:rPr>
              <a:t> جنيها وهو خارج الحدود المقدرة بمبلغ </a:t>
            </a:r>
            <a:r>
              <a:rPr b="0" lang="ar-SA" sz="2000" spc="-1" strike="noStrike">
                <a:solidFill>
                  <a:srgbClr val="000000"/>
                </a:solidFill>
                <a:latin typeface="Times New Roman"/>
              </a:rPr>
              <a:t>50</a:t>
            </a:r>
            <a:r>
              <a:rPr b="0" lang="ar-SA" sz="2000" spc="-1" strike="noStrike">
                <a:solidFill>
                  <a:srgbClr val="000000"/>
                </a:solidFill>
                <a:latin typeface="Times New Roman"/>
              </a:rPr>
              <a:t> جنيها وبالتالى فالارباح التى يجب الإعتراف بها فى قائمة الدخل ت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متراكمة غير المعترف بها فى نهاية عام </a:t>
            </a:r>
            <a:r>
              <a:rPr b="0" lang="ar-SA" sz="2000" spc="-1" strike="noStrike">
                <a:solidFill>
                  <a:srgbClr val="000000"/>
                </a:solidFill>
                <a:latin typeface="Times New Roman"/>
              </a:rPr>
              <a:t>2003</a:t>
            </a:r>
            <a:r>
              <a:rPr b="0" lang="ar-SA" sz="2000" spc="-1" strike="noStrike">
                <a:solidFill>
                  <a:srgbClr val="000000"/>
                </a:solidFill>
                <a:latin typeface="Times New Roman"/>
              </a:rPr>
              <a:t> تم تحديدها عن طريق الحصول على الخسارة الناتجة عن الإلتزام والخسارة الناتجة عن أصول الخطة مما يؤدى الى رصيد آخر المدة بيلغ </a:t>
            </a:r>
            <a:r>
              <a:rPr b="0" lang="ar-SA" sz="2000" spc="-1" strike="noStrike">
                <a:solidFill>
                  <a:srgbClr val="000000"/>
                </a:solidFill>
                <a:latin typeface="Times New Roman"/>
              </a:rPr>
              <a:t>73</a:t>
            </a:r>
            <a:r>
              <a:rPr b="0" lang="ar-SA" sz="2000" spc="-1" strike="noStrike">
                <a:solidFill>
                  <a:srgbClr val="000000"/>
                </a:solidFill>
                <a:latin typeface="Times New Roman"/>
              </a:rPr>
              <a:t> جنيها بعد خصم م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 تمثل الأرباح المعترف بها فى قائمة الدخل. (</a:t>
            </a:r>
            <a:r>
              <a:rPr b="0" lang="ar-SA" sz="2000" spc="-1" strike="noStrike">
                <a:solidFill>
                  <a:srgbClr val="000000"/>
                </a:solidFill>
                <a:latin typeface="Times New Roman"/>
              </a:rPr>
              <a:t>170</a:t>
            </a:r>
            <a:r>
              <a:rPr b="0" lang="ar-SA" sz="2000" spc="-1" strike="noStrike">
                <a:solidFill>
                  <a:srgbClr val="000000"/>
                </a:solidFill>
                <a:latin typeface="Times New Roman"/>
              </a:rPr>
              <a:t> – </a:t>
            </a:r>
            <a:r>
              <a:rPr b="0" lang="ar-SA" sz="2000" spc="-1" strike="noStrike">
                <a:solidFill>
                  <a:srgbClr val="000000"/>
                </a:solidFill>
                <a:latin typeface="Times New Roman"/>
              </a:rPr>
              <a:t>42</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a:t>
            </a:r>
            <a:r>
              <a:rPr b="0" lang="ar-SA" sz="2000" spc="-1" strike="noStrike">
                <a:solidFill>
                  <a:srgbClr val="000000"/>
                </a:solidFill>
                <a:latin typeface="Times New Roman"/>
              </a:rPr>
              <a:t> = </a:t>
            </a:r>
            <a:r>
              <a:rPr b="0" lang="ar-SA" sz="2000" spc="-1" strike="noStrike">
                <a:solidFill>
                  <a:srgbClr val="000000"/>
                </a:solidFill>
                <a:latin typeface="Times New Roman"/>
              </a:rPr>
              <a:t>73</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304920"/>
            <a:ext cx="830592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رابعة</a:t>
            </a:r>
            <a:r>
              <a:rPr b="0" lang="ar-SA" sz="2000" spc="-1" strike="noStrike">
                <a:solidFill>
                  <a:srgbClr val="000000"/>
                </a:solidFill>
                <a:latin typeface="Times New Roman"/>
              </a:rPr>
              <a:t>: تحديد المبالغ التى يجب أن تظهر فى الميزانية و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ات الميزانية تمثل الفرق بين إلتزامات الخطة وأصول الخطة (صافى الإلتزام) بالإضافة الى الأرباح غير المعترف ب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الميزانية</a:t>
            </a:r>
            <a:endParaRPr b="0" lang="en-US" sz="2000" spc="-1" strike="noStrike">
              <a:solidFill>
                <a:srgbClr val="000000"/>
              </a:solidFill>
              <a:latin typeface="Times New Roman"/>
            </a:endParaRPr>
          </a:p>
        </p:txBody>
      </p:sp>
      <p:graphicFrame>
        <p:nvGraphicFramePr>
          <p:cNvPr id="80" name=""/>
          <p:cNvGraphicFramePr/>
          <p:nvPr/>
        </p:nvGraphicFramePr>
        <p:xfrm>
          <a:off x="533520" y="2362320"/>
          <a:ext cx="8229600" cy="4064040"/>
        </p:xfrm>
        <a:graphic>
          <a:graphicData uri="http://schemas.openxmlformats.org/drawingml/2006/table">
            <a:tbl>
              <a:tblPr/>
              <a:tblGrid>
                <a:gridCol w="1219320"/>
                <a:gridCol w="1371600"/>
                <a:gridCol w="1295280"/>
                <a:gridCol w="4343400"/>
              </a:tblGrid>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1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3</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09</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2</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خسائر) الإكتوارية غير المعترف بها</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ذى يجب الإعتراف به فى الميزان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04920"/>
            <a:ext cx="83059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روفات 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ات بقائمة الدخل تمثل تكلفة الخدمة الحالية بالإضافة الى تكلفة الفوائد مخصوما منها العائد على أصول الخطة معدلة بالمكسب الإكتوارى المعترف به عامى </a:t>
            </a:r>
            <a:r>
              <a:rPr b="0" lang="ar-SA" sz="2000" spc="-1" strike="noStrike">
                <a:solidFill>
                  <a:srgbClr val="000000"/>
                </a:solidFill>
                <a:latin typeface="Times New Roman"/>
              </a:rPr>
              <a:t>2001</a:t>
            </a:r>
            <a:r>
              <a:rPr b="0" lang="ar-SA" sz="2000" spc="-1" strike="noStrike">
                <a:solidFill>
                  <a:srgbClr val="000000"/>
                </a:solidFill>
                <a:latin typeface="Times New Roman"/>
              </a:rPr>
              <a:t> و </a:t>
            </a:r>
            <a:r>
              <a:rPr b="0" lang="ar-SA" sz="2000" spc="-1" strike="noStrike">
                <a:solidFill>
                  <a:srgbClr val="000000"/>
                </a:solidFill>
                <a:latin typeface="Times New Roman"/>
              </a:rPr>
              <a:t>2003</a:t>
            </a:r>
            <a:endParaRPr b="0" lang="en-US" sz="2000" spc="-1" strike="noStrike">
              <a:solidFill>
                <a:srgbClr val="000000"/>
              </a:solidFill>
              <a:latin typeface="Times New Roman"/>
            </a:endParaRPr>
          </a:p>
        </p:txBody>
      </p:sp>
      <p:graphicFrame>
        <p:nvGraphicFramePr>
          <p:cNvPr id="82" name=""/>
          <p:cNvGraphicFramePr/>
          <p:nvPr/>
        </p:nvGraphicFramePr>
        <p:xfrm>
          <a:off x="304920" y="2057400"/>
          <a:ext cx="8610480" cy="4064040"/>
        </p:xfrm>
        <a:graphic>
          <a:graphicData uri="http://schemas.openxmlformats.org/drawingml/2006/table">
            <a:tbl>
              <a:tblPr/>
              <a:tblGrid>
                <a:gridCol w="1066680"/>
                <a:gridCol w="1143000"/>
                <a:gridCol w="1143000"/>
                <a:gridCol w="5257800"/>
              </a:tblGrid>
              <a:tr h="6516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9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من الخطوة الأ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1</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 (من الخطوة الا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خسائر (الارباح) الإكتوارية المعترف بها خلال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 الذى يجب الإعتراف به فى قائمة الدخ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86104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فصاحات إضاف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على المنشاة أن تفصح عن الحركة فى صافى الإلتزام خلال العام و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1800" spc="-1" strike="noStrike">
                <a:solidFill>
                  <a:srgbClr val="000000"/>
                </a:solidFill>
                <a:latin typeface="Times New Roman"/>
              </a:rPr>
              <a:t>الإفصاح عن الحركة فى صافى الإلتزام المعترف به فى الميزانية</a:t>
            </a:r>
            <a:endParaRPr b="0" lang="en-US" sz="1800" spc="-1" strike="noStrike">
              <a:solidFill>
                <a:srgbClr val="000000"/>
              </a:solidFill>
              <a:latin typeface="Times New Roman"/>
            </a:endParaRPr>
          </a:p>
        </p:txBody>
      </p:sp>
      <p:graphicFrame>
        <p:nvGraphicFramePr>
          <p:cNvPr id="84" name=""/>
          <p:cNvGraphicFramePr/>
          <p:nvPr/>
        </p:nvGraphicFramePr>
        <p:xfrm>
          <a:off x="380880" y="1981080"/>
          <a:ext cx="8229600" cy="1905120"/>
        </p:xfrm>
        <a:graphic>
          <a:graphicData uri="http://schemas.openxmlformats.org/drawingml/2006/table">
            <a:tbl>
              <a:tblPr/>
              <a:tblGrid>
                <a:gridCol w="1067040"/>
                <a:gridCol w="1295280"/>
                <a:gridCol w="1371600"/>
                <a:gridCol w="4495680"/>
              </a:tblGrid>
              <a:tr h="3808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اول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صروف كما تم تحديده كما سبق</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1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9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شتراكات (معط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7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آخر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471560" y="4076640"/>
            <a:ext cx="494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فصاح عن العائد الفعلى على أصول الخطة</a:t>
            </a:r>
            <a:endParaRPr b="0" lang="en-US" sz="1800" spc="-1" strike="noStrike">
              <a:solidFill>
                <a:srgbClr val="000000"/>
              </a:solidFill>
              <a:latin typeface="Times New Roman"/>
            </a:endParaRPr>
          </a:p>
        </p:txBody>
      </p:sp>
      <p:graphicFrame>
        <p:nvGraphicFramePr>
          <p:cNvPr id="86" name=""/>
          <p:cNvGraphicFramePr/>
          <p:nvPr/>
        </p:nvGraphicFramePr>
        <p:xfrm>
          <a:off x="380880" y="4495680"/>
          <a:ext cx="8229600" cy="1600200"/>
        </p:xfrm>
        <a:graphic>
          <a:graphicData uri="http://schemas.openxmlformats.org/drawingml/2006/table">
            <a:tbl>
              <a:tblPr/>
              <a:tblGrid>
                <a:gridCol w="1067040"/>
                <a:gridCol w="1295280"/>
                <a:gridCol w="1371600"/>
                <a:gridCol w="4495680"/>
              </a:tblGrid>
              <a:tr h="39996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3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متوقع على ا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فعلى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228600"/>
            <a:ext cx="883944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سياسة المحاسبية التى تتبعها المنشأة للإعتراف ب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وصف العام لنوع الخطة ال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سوية الاصول والإلتزامات المعترف بها بالميزانية على أن توضح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لم يتم تمويلها بالكامل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تم تمويلها جزئيا أو كليا (قبل خصم القيمة العادلة لأصو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لأى أصول ل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صافى الأرباح او الخسائر الإكتوارية غير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سابقة غير المعترف بها فى الميزانية عند تقديم الخطة أو التحسينات بالنسبة لخطة 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بالغ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الغ المدرجة ضمن القيمة العادلة لأصول الخطة للعناصر الن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كل نوع من أنواع الادوات المالية الخاصة بإستثمار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اصل تشغله الوحدة او أى أصول اخرى تستخدم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457200"/>
            <a:ext cx="82296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000" spc="-1" strike="noStrike">
                <a:solidFill>
                  <a:srgbClr val="000000"/>
                </a:solidFill>
                <a:latin typeface="Times New Roman"/>
              </a:rPr>
              <a:t>تسوية توضح التحركات خلال الفترة فى صافى الإلتزام (أو الأصل) المعترف به فى الميزانية</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جمالى المصروف المعترف به فى قائمة الدخ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ح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متوقع على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مستقب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ثر أى تخفيض او تسو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فتراضات الإكتوارية الرئيسية المستخدمة فى تاريخ الميزانية مشتملة على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الخصم (أسعار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لعائد على أى اصول للخطة عن الفترات المعروضة فى 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زيادة المرتب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إتجاه تكاليف العلاج.</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إفتراضات إكتوارية جوهرية أخرى 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1690560"/>
            <a:ext cx="86868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اشات نهاية الخدم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معاشات نهاية الخدمة هى المدفوعات التى تتم نتيجة لقرار صاحب العمل بإنهاء خدمة العامل قبل تاريخ التقاعد أو بسبب قرار العامل بقبول التقاعد الإختيارى. ويجب الإعتراف بتكلفة هذه المدفوعات عندما يلتزم صاحب العمل بشكل محدد بالقيام بها و إذا كانت هذه المدفوعات مستحقة السداد لأكثر من </a:t>
            </a:r>
            <a:r>
              <a:rPr b="0" lang="ar-SA" sz="2000" spc="-1" strike="noStrike">
                <a:solidFill>
                  <a:srgbClr val="000000"/>
                </a:solidFill>
                <a:latin typeface="Times New Roman"/>
              </a:rPr>
              <a:t>12</a:t>
            </a:r>
            <a:r>
              <a:rPr b="0" lang="ar-SA" sz="2000" spc="-1" strike="noStrike">
                <a:solidFill>
                  <a:srgbClr val="000000"/>
                </a:solidFill>
                <a:latin typeface="Times New Roman"/>
              </a:rPr>
              <a:t> شهرا من تاريخ الميزانية فيجب خصمها بالمعدل الذى يعتمد على العائد على سندات الشركات المرتفعة الجودة فى تاريخ الميزان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762120"/>
            <a:ext cx="8077320" cy="57790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فات أنظمة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ثل كثيرا من أنظمة التقاعد الخاصة فى إنشاء صندوق مستقل تقوم المنشأة وفى بعض الأحوال الموظفين بها بسداد الإشتراك فيه ويتم منه سداد جزء أو كل إلتزامات المنشاة تجاه معاشات التقاعد، وهذه الصناديق ذات كيانات مستقلة يتم إدارتها بمعرفة أطراف آخرين وغالبا ما يكون لديهم الصلاحيات فى إستثمار الأموال وسداد المعاش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أخذ الصندوق فى بعض الأحيان شكل عقد تامين لا يشترط أن يكون لمعاشات المؤمن عليهم فى هذا العقد علاقة مباشرة مع إلتزامات المنشأة تجاه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وم المنشاة فى بعض نظم المعاشات بسداد معاشات التقاعد دون أن تنشأ صندوق مستقل وهو ما يطلق عليه النظم غير الممو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990720"/>
            <a:ext cx="86104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شاكل تطبيق متطلبات معيار المحاسبة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يم العادلة لأصول الخطة متقلبة حتى بالرغم من أن الأرباح والخسائر الإكتوارية قد لا يتم الإعتراف بها بالكامل مباشرة فى قائمة الدخل فقد تكون هناك تقلبات جوهرية فى الميزانية. </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لا تكون القيم العادلة لأصول الخطة ملائمة للواقع الإقتصادى لمعظم خطط المعاشات حيث يتم تقييم الاصول بمبالغ قصيرة الأجل على الرغم من ان معظم أصول وإلتزامات خطط المعاشات يتم الإحتفاظ بها لآجال طويلة.</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الجة تكاليف المعاش فى قائمة الدخل معقدة وقد لا يكون من السهل فهمها من قبل المستخدمين العاديين ل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10480" cy="5854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موظفين قصيرة الأجل</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جور ومرتبات وإشتراكات التأمين الإجتماعى</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كمصروف عندما يتم تأدية الخدمات مع معالجة المستحقات القائمة فى تاريخ الميزان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دل المستحقات عن الأجازات السنوية والأجازات المرضية فى تاريخ الميزانية إذا ما قام الموظف بتجميعها وترحيلها الى الفترات المستقب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شاركة فى الأرباح والمكافآت</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فى الفترة المحاسبية التى تم الإعتراف فيها بالأرباح المرتبطة بها.</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وفاة أثناء الخدم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إذا ما كانت المعاشات مضمونة تأمينيا فالتكلفة هى الاقساط المدفوعة مقابل تأمين سداد المعاشات.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معاشات غير مضمونة تامينيا فالمدفوعات المسددة أو المستحق سدادها فى حالات الوفاة حتى تاريخ الميزانية يجب أخذها فى الإعتبار.</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676520"/>
            <a:ext cx="7772400" cy="265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معاشات التقاع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الإشتراك المحدد</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خطط المعاش المحدد </a:t>
            </a:r>
            <a:endParaRPr b="0" lang="en-US" sz="2400" spc="-1" strike="noStrike">
              <a:solidFill>
                <a:srgbClr val="000000"/>
              </a:solidFill>
              <a:latin typeface="Times New Roman"/>
            </a:endParaRPr>
          </a:p>
        </p:txBody>
      </p:sp>
      <p:sp>
        <p:nvSpPr>
          <p:cNvPr id="46" name=""/>
          <p:cNvSpPr/>
          <p:nvPr/>
        </p:nvSpPr>
        <p:spPr>
          <a:xfrm flipH="1">
            <a:off x="190512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09480"/>
            <a:ext cx="861048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إشتراك المحد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حالة الإشتراك المحدد سوف يفى صاحب العمل عادة بإلتزامه وذلك عن طريق سداد الإشتراكات المحددة لخطة المعاشات. وفى هذه الحالة تعتمد المعاشات المسددة على الاموال التى توفرها هذه الإشتراكات وإيرادات الإستثمارات الخاصة بها. وطبقا لهذا النظام يمكن قياس التكلفة بالنسبة لصاحب العمل بدرجة معقولة من التأك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ثبات إشتراك المنشأة فى نظام الإشتراك المحدد والخاص بفترة خدمة معينة كمصروف فى تلك الفترة، والإشتراك هنا غالبا ما يحدد عن طريق معادلة مذكورة فى النظا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د الإشتراكات التى تتفق عليها المنشأة قيمة المصروف والإلتزام الواجب إثباته تجاه نظام معاشات التقاعد وبالتالى فإنه عادة لا ينتج عن النظام أية أعباء إضافية على المنشاة بخلاف الإشتراكات الدو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 المتعلقة بأنظمة وخطط الإشتراك المحد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وصف عام لكل نظام متضمنا فئات الموظفين الخاضعين للنظام.</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لغ المثبت كمصروف عن الفتر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ية أمور أخرى هامة متعلقة بنظم معاشات التقاعد والتى تؤثر على المقارنة بالفترات السابق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2296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معاشات أو المزايا المحد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معاشات الى يجب سدادها فى العادة على مرتبات الموظفين فى نهاية مدة التوظيف.</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ى ضوء هذا النظام فإنه يكون من المستحيل التأكد مقدما من ان الإشتراكات المسددة طبقا للخطة بالإضافة الى عائد الإستثمار الخاص بها سوف يعادل المعاشات التى يجب سدادها، ومن هنا قد يكون صاحب العمل مسئولا قانونا عن توفير أى نقص غير متوقع فى الاموال أو عندما لا يوجد هذا الإلتزام القانونى فقد يجد صاحب العمل انه من الضرورى الوفاء بالنقص فى الاموال للحفاظ على علاقات العمل الجيدة. وعلى العكس فعندما يوجد فائض فى الاموال قد يكون صاحب العمل مفوضا ان يرد الاموال أو يخفض الإشتراكات المدفوعة طبقا للخط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سبب الطبيعة طويلة الأجل للإلتزامات الخاصة بمعاشات التقاعد فمن الضرورى إستخدام الحسابات الإكتوارية لتحديد التكلفة بالنسبة لخطط المعاش المحددة فى ضوء الإفتراضات التى يحددها الإكتوارى مثل معدلات التضخم المستقبلية والزيادات فى الأجور والمعاشات الى يجب سدادها وإيرادات الإستثمارات وعدد العاملين المشتركين فى الخطة ومتوسط أعمار العاملين وإحتمالات الوفاة او ترك العمل قبل أن يصلوا الى سن التقاعد ومعدلات الخص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ريفـــــــ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موي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مويل هو تحويل الاصول الى وحدة ما منفصلة عن المنشأة للوفاء بالإلتزامات المستقبلية الخاصة بسداد معاشات التقاعد. ويحتاج التمويل الى تمييزه عن المعدل الذى عنده يتم تحميل التكاليف على قائمة الدخ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جاري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أو الحالية هي الزيادة في القيمة الحالية للإلتزام المحدد للمعاشات والناتج عن خدمة الموظف فى الفتر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سابق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سابقة هي الزيادة في القيمة الحالية للإلتزام المحدد للمعاشات والخاص بخدمة الموظف في الفترات السابقة والتى تحدث فى الفترة الحالية نتيجة تقديم أو تغيير في المعاشات في نهاية الخدمة. (قد تكون موجبة عندما يتم تحسين المعاشات أو تكون سالبة عندما يتم تخفيض المعاش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a:t>
            </a:r>
            <a:r>
              <a:rPr b="0" lang="ar-SA" sz="2000" spc="-1" strike="noStrike">
                <a:solidFill>
                  <a:srgbClr val="000000"/>
                </a:solidFill>
                <a:latin typeface="Times New Roman"/>
              </a:rPr>
              <a:t>  </a:t>
            </a:r>
            <a:r>
              <a:rPr b="1" lang="ar-SA" sz="2000" spc="-1" strike="noStrike">
                <a:solidFill>
                  <a:srgbClr val="000000"/>
                </a:solidFill>
                <a:latin typeface="Times New Roman"/>
              </a:rPr>
              <a:t>تعريفـــــــات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أو 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مل الارباح او الخسائر الإكتوارية الآثار أو الفروق بين الإفتراضات الإكتوارية السابقة وما حدث فعلا وكذا آثار التغييرات فى الإفتراضات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عر (معدل) الخصم المستخد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تحديد سعر أو معدل الخصم المستخدم فى الدراسات الإكتوارية بالرجوع الى عوائد السوق فى تاريخ الميزانية وذلك على السندات التجارية مرتفعة الجودة وإذا كان ذلك غير متاح فيتم الرجوع الى العوائد على السندات الحكوم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5:41:54Z</dcterms:created>
  <dc:creator>Administrator</dc:creator>
  <dc:description/>
  <dc:language>en-US</dc:language>
  <cp:lastModifiedBy>Administrator</cp:lastModifiedBy>
  <dcterms:modified xsi:type="dcterms:W3CDTF">2004-06-07T23:03:38Z</dcterms:modified>
  <cp:revision>23</cp:revision>
  <dc:subject/>
  <dc:title>PowerPoint Presentation</dc:title>
</cp:coreProperties>
</file>